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5A8D-0159-4C68-929F-0701A726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2FCC-18C1-41EA-AFDB-A8E127BA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714-F91E-42B2-BF61-784C95F6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0715-80DC-410F-8626-94DA4B80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A043-5C0C-416D-93B8-4F991C98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041F-A68A-403A-A7BA-6CE1C99E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9D32-E2D8-4ADD-9B76-DA9CF133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27D2-1002-4FD1-A503-B212FD13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31A9-2934-4475-B8B9-D8F6ACA9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6C22-D447-43CA-AF99-D25C3DAC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531D-DDBD-48E9-A3C5-FEEBAADB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D4F-3D48-4418-B208-FFDB69B3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2D87-6F75-4889-B370-5FD91EEC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B50D-3E1D-4CF6-AA6F-D4B861BD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E94B-A451-4C1D-B158-CB55ED5D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1441-DC94-4387-95F4-BFA8F7C8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64F5-EF03-4E18-A70A-F1A14FC5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4455-89B5-4FC9-B12D-93F6D84A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7031-3117-4BB5-8674-63788422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B41A-7051-46E8-AEAA-7F1E29F7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070B-2932-4F4B-9D6E-1BC879E2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DFA9-6059-40FF-9BF1-D85F3A0D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286C-D511-4AC6-97CA-B0BCE926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2321-75EC-4CA1-8D70-C08008DE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C21A-FC86-4FF1-BA60-7CB46AB2DD7B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701B-7A0F-4C15-BA64-C30EB6CAF0D1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t.wikipedia.org/wiki/Galin&#279;s_smegenys" TargetMode="External"/><Relationship Id="rId3" Type="http://schemas.openxmlformats.org/officeDocument/2006/relationships/hyperlink" Target="http://lt.wikipedia.org/wiki/Didieji_pusrutuliai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t.wikipedia.org/wiki/Dendritas" TargetMode="External"/><Relationship Id="rId3" Type="http://schemas.openxmlformats.org/officeDocument/2006/relationships/hyperlink" Target="http://lt.wikipedia.org/wiki/Aksonas" TargetMode="External"/><Relationship Id="rId4" Type="http://schemas.openxmlformats.org/officeDocument/2006/relationships/hyperlink" Target="http://lt.wikipedia.org/wiki/&#352;vano_l&#261;stel&#279;" TargetMode="External"/><Relationship Id="rId5" Type="http://schemas.openxmlformats.org/officeDocument/2006/relationships/hyperlink" Target="http://lt.wikipedia.org/wiki/&#352;vano_l&#261;stel&#279;" TargetMode="External"/><Relationship Id="rId6" Type="http://schemas.openxmlformats.org/officeDocument/2006/relationships/hyperlink" Target="http://lt.wikipedia.org/wiki/L&#261;stel&#279;" TargetMode="External"/><Relationship Id="rId7" Type="http://schemas.openxmlformats.org/officeDocument/2006/relationships/hyperlink" Target="http://lt.wikipedia.org/wiki/L&#261;stel&#279;s_branduolys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143000"/>
            <a:ext cx="81471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0033"/>
                </a:solidFill>
                <a:latin typeface="Times New Roman"/>
              </a:rPr>
              <a:t>Kūno ir sielos problema.</a:t>
            </a:r>
            <a:br>
              <a:rPr sz="4800"/>
            </a:br>
            <a:r>
              <a:rPr b="0" lang="lt-LT" sz="4800" spc="-1" strike="noStrike">
                <a:solidFill>
                  <a:srgbClr val="330033"/>
                </a:solidFill>
                <a:latin typeface="Times New Roman"/>
              </a:rPr>
              <a:t>Biologiniai elgesio pagrindai</a:t>
            </a:r>
            <a:r>
              <a:rPr b="0" lang="lt-LT" sz="4800" spc="-1" strike="noStrike">
                <a:solidFill>
                  <a:srgbClr val="330033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84360" y="3933720"/>
            <a:ext cx="2087640" cy="172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16360" y="3933720"/>
            <a:ext cx="20955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Galvos smegenų tyrimų priemonė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linikiniai stebėjim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iesioginis poveikis smegen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megenų elektrinio aktyvumo registravimas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– elektroencefalograma (EE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megenų pjūviai – KAT (kompiuterinis ašinis tomografa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ET (pozitroninis emisinis tomografa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n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zonan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sichofizinė problem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141200" y="1704600"/>
            <a:ext cx="7146720" cy="4195800"/>
            <a:chOff x="1141200" y="1704600"/>
            <a:chExt cx="7146720" cy="4195800"/>
          </a:xfrm>
        </p:grpSpPr>
        <p:sp>
          <p:nvSpPr>
            <p:cNvPr id="103" name="_s19469"/>
            <p:cNvSpPr/>
            <p:nvPr/>
          </p:nvSpPr>
          <p:spPr>
            <a:xfrm>
              <a:off x="3649680" y="2449440"/>
              <a:ext cx="2131560" cy="21319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9463"/>
            <p:cNvSpPr/>
            <p:nvPr/>
          </p:nvSpPr>
          <p:spPr>
            <a:xfrm>
              <a:off x="3832200" y="1704600"/>
              <a:ext cx="176472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Kūnas</a:t>
              </a:r>
              <a:r>
                <a:rPr b="0" lang="lt-LT" sz="1800" spc="-1" strike="noStrike">
                  <a:solidFill>
                    <a:srgbClr val="000000"/>
                  </a:solidFill>
                  <a:latin typeface="Tahoma"/>
                </a:rPr>
                <a:t> (</a:t>
              </a: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smegenys</a:t>
              </a:r>
              <a:r>
                <a:rPr b="0" lang="lt-LT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9470"/>
            <p:cNvSpPr/>
            <p:nvPr/>
          </p:nvSpPr>
          <p:spPr>
            <a:xfrm>
              <a:off x="4351320" y="3665160"/>
              <a:ext cx="2131560" cy="2132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9464"/>
            <p:cNvSpPr/>
            <p:nvPr/>
          </p:nvSpPr>
          <p:spPr>
            <a:xfrm>
              <a:off x="6522840" y="5368680"/>
              <a:ext cx="17650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Siela (sąmonė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9471"/>
            <p:cNvSpPr/>
            <p:nvPr/>
          </p:nvSpPr>
          <p:spPr>
            <a:xfrm>
              <a:off x="2948040" y="3665160"/>
              <a:ext cx="2131560" cy="2132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9467"/>
            <p:cNvSpPr/>
            <p:nvPr/>
          </p:nvSpPr>
          <p:spPr>
            <a:xfrm>
              <a:off x="1141200" y="5368680"/>
              <a:ext cx="17650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Išorinis pasauli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sichofizinės problemos sprend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Okazionalizmas (Dievas yra visa ko priežast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ofizinis paraleliz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aterializ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iuolaikinis požiū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5280" y="1359000"/>
            <a:ext cx="8748360" cy="4302000"/>
            <a:chOff x="395280" y="1359000"/>
            <a:chExt cx="8748360" cy="4302000"/>
          </a:xfrm>
        </p:grpSpPr>
        <p:cxnSp>
          <p:nvCxnSpPr>
            <p:cNvPr id="114" name="_s25625"/>
            <p:cNvCxnSpPr>
              <a:stCxn id="115" idx="1"/>
              <a:endCxn id="116" idx="2"/>
            </p:cNvCxnSpPr>
            <p:nvPr/>
          </p:nvCxnSpPr>
          <p:spPr>
            <a:xfrm rot="10800000">
              <a:off x="5739840" y="4288680"/>
              <a:ext cx="233640" cy="114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25623"/>
            <p:cNvCxnSpPr>
              <a:stCxn id="118" idx="1"/>
              <a:endCxn id="116" idx="2"/>
            </p:cNvCxnSpPr>
            <p:nvPr/>
          </p:nvCxnSpPr>
          <p:spPr>
            <a:xfrm rot="10800000">
              <a:off x="5739840" y="4288680"/>
              <a:ext cx="233640" cy="4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25621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7626960" y="3207600"/>
              <a:ext cx="229320" cy="366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25619"/>
            <p:cNvCxnSpPr>
              <a:stCxn id="116" idx="0"/>
              <a:endCxn id="121" idx="2"/>
            </p:cNvCxnSpPr>
            <p:nvPr/>
          </p:nvCxnSpPr>
          <p:spPr>
            <a:xfrm flipH="1" flipV="1" rot="5400000">
              <a:off x="6535440" y="2481120"/>
              <a:ext cx="229320" cy="1819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25617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2894040" y="2845440"/>
              <a:ext cx="229320" cy="1090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5615"/>
            <p:cNvCxnSpPr>
              <a:stCxn id="127" idx="0"/>
              <a:endCxn id="125" idx="2"/>
            </p:cNvCxnSpPr>
            <p:nvPr/>
          </p:nvCxnSpPr>
          <p:spPr>
            <a:xfrm flipH="1" flipV="1" rot="5400000">
              <a:off x="1802160" y="2842920"/>
              <a:ext cx="229320" cy="1095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25612"/>
            <p:cNvCxnSpPr>
              <a:stCxn id="121" idx="0"/>
              <a:endCxn id="129" idx="2"/>
            </p:cNvCxnSpPr>
            <p:nvPr/>
          </p:nvCxnSpPr>
          <p:spPr>
            <a:xfrm flipV="1" rot="16200000">
              <a:off x="6049440" y="738000"/>
              <a:ext cx="229320" cy="2790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5611"/>
            <p:cNvCxnSpPr>
              <a:stCxn id="125" idx="0"/>
              <a:endCxn id="129" idx="2"/>
            </p:cNvCxnSpPr>
            <p:nvPr/>
          </p:nvCxnSpPr>
          <p:spPr>
            <a:xfrm flipH="1" flipV="1" rot="5400000">
              <a:off x="3502440" y="980280"/>
              <a:ext cx="229320" cy="2306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25607"/>
            <p:cNvSpPr/>
            <p:nvPr/>
          </p:nvSpPr>
          <p:spPr>
            <a:xfrm>
              <a:off x="2854080" y="1359000"/>
              <a:ext cx="3830760" cy="6602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5608"/>
            <p:cNvSpPr/>
            <p:nvPr/>
          </p:nvSpPr>
          <p:spPr>
            <a:xfrm>
              <a:off x="878400" y="2247840"/>
              <a:ext cx="3170160" cy="1028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ENTRINĖ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 (CNS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5609"/>
            <p:cNvSpPr/>
            <p:nvPr/>
          </p:nvSpPr>
          <p:spPr>
            <a:xfrm>
              <a:off x="5973480" y="2247840"/>
              <a:ext cx="3170160" cy="1028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3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ERIFERINĖ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3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5614"/>
            <p:cNvSpPr/>
            <p:nvPr/>
          </p:nvSpPr>
          <p:spPr>
            <a:xfrm>
              <a:off x="395280" y="3505320"/>
              <a:ext cx="194976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GALVO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MEGENY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5616"/>
            <p:cNvSpPr/>
            <p:nvPr/>
          </p:nvSpPr>
          <p:spPr>
            <a:xfrm>
              <a:off x="2580120" y="3505320"/>
              <a:ext cx="194976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UGARO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MEGENY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5618"/>
            <p:cNvSpPr/>
            <p:nvPr/>
          </p:nvSpPr>
          <p:spPr>
            <a:xfrm>
              <a:off x="4764960" y="3505320"/>
              <a:ext cx="194940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UTONOMINĖ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5620"/>
            <p:cNvSpPr/>
            <p:nvPr/>
          </p:nvSpPr>
          <p:spPr>
            <a:xfrm>
              <a:off x="6949440" y="3505320"/>
              <a:ext cx="194976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OMATINĖ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5622"/>
            <p:cNvSpPr/>
            <p:nvPr/>
          </p:nvSpPr>
          <p:spPr>
            <a:xfrm>
              <a:off x="5973480" y="4518000"/>
              <a:ext cx="3117960" cy="4572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IMPATINĖ SISTE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5624"/>
            <p:cNvSpPr/>
            <p:nvPr/>
          </p:nvSpPr>
          <p:spPr>
            <a:xfrm>
              <a:off x="5973480" y="5203800"/>
              <a:ext cx="3117960" cy="4572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ARASIMPATINĖ SISTE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Centrinė nervų sistema (</a:t>
            </a: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2)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562200" y="1969920"/>
            <a:ext cx="247680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Galvos smegen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185080" cy="3456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16000" y="515772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Galvos smegenys:1. </a:t>
            </a:r>
            <a:r>
              <a:rPr b="0" lang="lt-LT" sz="18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2"/>
              </a:rPr>
              <a:t>Galinės smegeny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, arba </a:t>
            </a:r>
            <a:r>
              <a:rPr b="0" lang="lt-LT" sz="18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3"/>
              </a:rPr>
              <a:t>didieji pusrutuliai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 2. Tarpinės smegenys 3.Vidurinės smegenys 4. Užpakalinės smegenys 5. Smegenėlės 6. Pailgosios smegen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Neuronai ir j</a:t>
            </a: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ų sąveik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745080" cy="3593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176560" y="5681520"/>
            <a:ext cx="275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508464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Neurono sandara. 1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2"/>
              </a:rPr>
              <a:t>Dendrit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2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3"/>
              </a:rPr>
              <a:t>Akson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4. Sinapsinės jungtys 5. Mielininis dangalas (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4"/>
              </a:rPr>
              <a:t>Švano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5"/>
              </a:rPr>
              <a:t> ląstelė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) 6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6"/>
              </a:rPr>
              <a:t>Ląstelė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7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7"/>
              </a:rPr>
              <a:t>Ląstelės branduol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inapsės – neuronų jungt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968720" cy="4535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340000" y="558972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Neuronų rūšys (pagal funkcijas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Juntamiej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Judinamiej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Įterptini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21:03:14Z</dcterms:created>
  <dc:creator>TADAS</dc:creator>
  <dc:description/>
  <dc:language>en-US</dc:language>
  <cp:lastModifiedBy> </cp:lastModifiedBy>
  <dcterms:modified xsi:type="dcterms:W3CDTF">2007-08-29T18:20:44Z</dcterms:modified>
  <cp:revision>17</cp:revision>
  <dc:subject/>
  <dc:title>BIOLOGINIAI ELGESIO PAGRINDAI</dc:title>
</cp:coreProperties>
</file>